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BEB-FDFD-47EE-8F22-37A6095E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3F5-0848-47F6-875C-DF35081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8F6-F821-4AAA-B3B4-01C4ADBC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FE4-A930-46AB-BC36-D2D5374E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D4D-AB39-4AFC-A85D-C55D4C3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F4D-FD45-426A-89CA-9438A784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AA3-6CA6-4F87-8BD6-8600E272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8F1-D4F1-4811-92CD-859DCCE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0C9-8FB0-4452-8475-459C8C24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D67-8852-4A56-88CA-5A845FE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7A5-7D7D-49A3-8E1A-61BD9BD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BD2-CD93-483E-9C08-6AA8C43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A2A1-82B1-496E-A80E-E7413838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219320"/>
            <a:ext cx="60195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Cells &amp; Organ </a:t>
            </a:r>
            <a:endParaRPr b="0" lang="en-US" sz="1800" spc="1" strike="noStrike">
              <a:ln w="12600">
                <a:solidFill>
                  <a:srgbClr val="00cc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Systems</a:t>
            </a:r>
            <a:endParaRPr b="0" lang="en-US" sz="1800" spc="1" strike="noStrike">
              <a:ln w="12600">
                <a:solidFill>
                  <a:srgbClr val="00cc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971800" y="609480"/>
            <a:ext cx="3124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el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21320"/>
            <a:ext cx="2971800" cy="223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599" t="52519" r="39432" b="12949"/>
          <a:stretch/>
        </p:blipFill>
        <p:spPr>
          <a:xfrm>
            <a:off x="6172200" y="45720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25274" t="60789" r="47096" b="0"/>
          <a:stretch/>
        </p:blipFill>
        <p:spPr>
          <a:xfrm>
            <a:off x="3124080" y="3276720"/>
            <a:ext cx="2743200" cy="226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280" y="3886200"/>
            <a:ext cx="26481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d Blood Cell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14600" y="2438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on Ebner's Gland Cel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24600" y="3962520"/>
            <a:ext cx="31194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ite Blood Cel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362320" y="15228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4471920"/>
            <a:ext cx="2590920" cy="2386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4038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90920" y="3200400"/>
            <a:ext cx="3352680" cy="26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19520" y="2590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90920" y="0"/>
            <a:ext cx="3705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00cc">
                        <a:alpha val="50196"/>
                      </a:srgbClr>
                    </a:gs>
                    <a:gs pos="100000">
                      <a:srgbClr val="87008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ga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00cc">
                      <a:alpha val="50196"/>
                    </a:srgbClr>
                  </a:gs>
                  <a:gs pos="100000">
                    <a:srgbClr val="87008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8001" t="2504" r="34007" b="0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10400" y="4076640"/>
            <a:ext cx="3333600" cy="278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102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20112" t="13945" r="24029" b="0"/>
          <a:stretch/>
        </p:blipFill>
        <p:spPr>
          <a:xfrm>
            <a:off x="2438280" y="2895480"/>
            <a:ext cx="3200400" cy="358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362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666880" y="0"/>
            <a:ext cx="37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gan Sys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7323"/>
          <a:stretch/>
        </p:blipFill>
        <p:spPr>
          <a:xfrm>
            <a:off x="0" y="3733920"/>
            <a:ext cx="327672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19360" cy="246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20931" t="0" r="0" b="0"/>
          <a:stretch/>
        </p:blipFill>
        <p:spPr>
          <a:xfrm>
            <a:off x="6553080" y="3657600"/>
            <a:ext cx="259092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523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048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0" y="0"/>
            <a:ext cx="445284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rganis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66880" y="2514600"/>
            <a:ext cx="3581640" cy="2581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pm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209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33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14600" y="2666880"/>
            <a:ext cx="3933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By: Faith, Alison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Ange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5:09:06Z</dcterms:created>
  <dc:creator>fludwig</dc:creator>
  <dc:description/>
  <dc:language>en-US</dc:language>
  <cp:lastModifiedBy>rrvsd</cp:lastModifiedBy>
  <dcterms:modified xsi:type="dcterms:W3CDTF">2009-10-07T19:08:50Z</dcterms:modified>
  <cp:revision>4</cp:revision>
  <dc:subject/>
  <dc:title>Slide 1</dc:title>
</cp:coreProperties>
</file>